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4ED0-EADC-44DB-AE9F-804268B77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E69E-B5C1-4F66-8CA2-7CDB761BB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D05-8306-4586-9A7F-800673E4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E1F-5713-4DC8-804A-1C1D7EBE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72D-7D4C-4E3D-9339-EAA08D96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87B-1FDA-46C5-88A6-AB643451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D7F-3E83-4728-B84C-A4B2EA2B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986-F57D-4A5F-AC75-8F42D8B8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B9F-60F0-46DF-A975-7D260B6E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928-F5F1-448A-9D40-5974314C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4AF-41E8-4EFC-9F67-2CF52359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2EF-62F5-4C11-AED8-CA6F725D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C5A-3F61-4CCA-B5FA-E624F25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4F1-2636-41C5-A7E4-9C544DD2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DBDF-16CD-4D46-B990-F02ADEDF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omo están usted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tambié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Que t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ec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43:25Z</dcterms:created>
  <dc:creator>FriscoISD</dc:creator>
  <dc:description/>
  <dc:language>en-US</dc:language>
  <cp:lastModifiedBy>NYCDOE</cp:lastModifiedBy>
  <dcterms:modified xsi:type="dcterms:W3CDTF">2012-12-03T14:56:46Z</dcterms:modified>
  <cp:revision>103</cp:revision>
  <dc:subject/>
  <dc:title>Profile</dc:title>
</cp:coreProperties>
</file>